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8372B8-4D95-4465-B6B1-C0015FB161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75F6E-C7BC-47FC-8F61-7F73551A3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CCB18D-9762-4FBB-88A6-D4896E6B3E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770FC3-82D1-418F-A8C7-EFE87E12C3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0704C9-BCA2-4182-96F3-E8F59109F0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CDEA8F-8B50-47F6-A7A2-CE0C285F75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B82AF5-D68F-4536-BD59-0F1126A44E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A236AB-BE97-49ED-83EF-213AEF02D8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562E73-3708-4DEF-994E-84DBD65184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1EE98D-DB5A-43C8-8FAC-554A5449BC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32941B-1EF9-40AE-9C5E-3614C5136E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B3B08-6BC7-4365-984F-902218D6C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4DC5FF-0DD7-4DE9-8578-897E49003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66D007-F527-4A80-9F9A-B48CA41AAF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75A579-1A4D-4242-8EE3-53257D8F7E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617124-9BC9-4809-9310-63D06D3483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B3948C-962B-4135-812D-7DA8FC9F5C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16EAF-9975-4580-89C5-78EDC1804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98F28-B1F3-4A89-904D-353FAF4CB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17252-4485-43FE-9F7A-E70B0B782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0E7BE-02D2-469F-82EE-B2698066C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6E273-0174-4B1C-BE48-8FBDE2946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04B86-29B3-4E32-8C23-320BA5305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41AFF-9C50-4716-A686-6157B2EAB5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5A1D9-5C04-4257-8C2C-542E5D50B5F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5ED2E-5916-44AF-973D-687A3BD76E36}" type="slidenum">
              <a:rPr b="0" lang="el-G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1052640"/>
            <a:ext cx="9144000" cy="22017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800" spc="-1" strike="noStrike">
                <a:solidFill>
                  <a:srgbClr val="ccecff"/>
                </a:solidFill>
                <a:latin typeface="Arial"/>
              </a:rPr>
              <a:t>ΕΡΓΑΣΙΑ ΑΣΥΡΜΑΤΑ ΔΙΚΤΥΑ  ΟΜΑΔΑ  3</a:t>
            </a:r>
            <a:br>
              <a:rPr sz="4800"/>
            </a:br>
            <a:r>
              <a:rPr b="0" lang="el-GR" sz="4800" spc="-1" strike="noStrike">
                <a:solidFill>
                  <a:srgbClr val="ccecff"/>
                </a:solidFill>
                <a:latin typeface="Arial"/>
              </a:rPr>
              <a:t> ΓΙΩΡΓΟΣ  ΧΑΪΔΕΜΕΝΟΣ  ΒΠ</a:t>
            </a:r>
            <a:endParaRPr b="0" lang="en-US" sz="4800" spc="-1" strike="noStrike">
              <a:solidFill>
                <a:srgbClr val="ccecff"/>
              </a:solidFill>
              <a:latin typeface="Arial"/>
            </a:endParaRPr>
          </a:p>
        </p:txBody>
      </p:sp>
      <p:sp>
        <p:nvSpPr>
          <p:cNvPr id="212" name="PlaceHolder 2"/>
          <p:cNvSpPr>
            <a:spLocks noGrp="1"/>
          </p:cNvSpPr>
          <p:nvPr>
            <p:ph type="subTitle"/>
          </p:nvPr>
        </p:nvSpPr>
        <p:spPr>
          <a:xfrm>
            <a:off x="1371600" y="3885840"/>
            <a:ext cx="6400800" cy="622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ΤΙ Ε</a:t>
            </a:r>
            <a:r>
              <a:rPr b="0" lang="en-US" sz="3200" spc="-1" strike="noStrike">
                <a:solidFill>
                  <a:srgbClr val="ffffff"/>
                </a:solidFill>
                <a:latin typeface="Arial"/>
              </a:rPr>
              <a:t>I</a:t>
            </a:r>
            <a:r>
              <a:rPr b="0" lang="el-GR" sz="3200" spc="-1" strike="noStrike">
                <a:solidFill>
                  <a:srgbClr val="ffffff"/>
                </a:solidFill>
                <a:latin typeface="Arial"/>
              </a:rPr>
              <a:t>ΝΑΙ ΤΟ </a:t>
            </a:r>
            <a:r>
              <a:rPr b="0" lang="en-US" sz="3200" spc="-1" strike="noStrike">
                <a:solidFill>
                  <a:srgbClr val="ffffff"/>
                </a:solidFill>
                <a:latin typeface="Arial"/>
              </a:rPr>
              <a:t>BLUETOOTH;</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6192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000" spc="-1" strike="noStrike">
              <a:solidFill>
                <a:srgbClr val="ccecff"/>
              </a:solidFill>
              <a:latin typeface="Arial"/>
            </a:endParaRPr>
          </a:p>
        </p:txBody>
      </p:sp>
      <p:sp>
        <p:nvSpPr>
          <p:cNvPr id="236" name="PlaceHolder 2"/>
          <p:cNvSpPr>
            <a:spLocks noGrp="1"/>
          </p:cNvSpPr>
          <p:nvPr>
            <p:ph/>
          </p:nvPr>
        </p:nvSpPr>
        <p:spPr>
          <a:xfrm>
            <a:off x="457200" y="620280"/>
            <a:ext cx="8229600" cy="5505480"/>
          </a:xfrm>
          <a:prstGeom prst="rect">
            <a:avLst/>
          </a:prstGeom>
          <a:noFill/>
          <a:ln w="0">
            <a:noFill/>
          </a:ln>
        </p:spPr>
        <p:txBody>
          <a:bodyPr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Το Bluetooth έχει πάρα πολλές εφαρμογές, με πιο δημοφιλή την εφαρμογή σε κινητά τηλέφωνα, για παράδειγμα την ανταλλαγή αρχείων, φωτογραφιών και βίντεο ή την χρήση ασύρματων ακουστικών. Το Bluetooth όμως δεν χρησιμοποιείται μόνο στα κινητά τηλέφωνα. Υπολογιστές παλάμης, ψηφιακές κάμερες, mp3 players, φορητοί και σταθεροί υπολογιστές και πολλές άλλες συσκευές κάνουν χρήση της τεχνολογίας Bluetooth για να επικοινωνούν σε μικρή απόσταση χωρίς την χρήση ενοχλητικών καλωδίων. </a:t>
            </a:r>
            <a:br>
              <a:rPr sz="1800"/>
            </a:br>
            <a:br>
              <a:rPr sz="1800"/>
            </a:br>
            <a:r>
              <a:rPr b="0" lang="el-GR" sz="1800" spc="-1" strike="noStrike">
                <a:solidFill>
                  <a:srgbClr val="ffffff"/>
                </a:solidFill>
                <a:latin typeface="Arial"/>
              </a:rPr>
              <a:t>Το Bluetooth έγινε ιδιαίτερα δημοφιλές και αναπόσπαστο στοιχείο σε αρκετά ηλεκτρονικά προϊόντα, καθώς ουσιαστικά αντικατέστησε τα καλώδια που παλαιότερα ήταν απαιτούμενα για την διασύνδεση των διαφόρων συσκευών. Επίσης, το Bluetooth νίκησε εκτός από τα καλώδια, μια προηγούμενη ασύρματη τεχνολογία επικοινωνίας, τις υπέρυθρες ακτίνες (IrDA). Όλοι θυμόμαστε κινητά προηγούμενης γενιάς τα οποία ήταν εξοπλισμένα με μια θύρα υπέρυθρης επικοινωνίας. Το μειονέκτημα των υπέρυθρων ήταν ότι για να επιτευχθεί σύνδεση μεταξύ δύο συσκευών, θα έπρεπε να είναι δίπλα η μία με την άλλη, έχοντας αντικριστά τις υπέρυθρες θύρες επικοινωνίας τους. Εκεί δεν θα έπρεπε να παρεμβάλλεται κάποιο αντικείμενο ανάμεσα στις θύρες υπέρυθρης επικοινωνίας, διαφορετικά δεν μπορούσε να επιτευχθεί σύνδεση. Το Bluetooth, όχι μόνο δίνει την ελευθερία σε δύο συσκευές να βρίσκονται όπου θέλουν μέσα σε μια ακτίνα περίπου 10 μέτρων, αλλά δεν υπάρχει και κάποιο πρόβλημα παρεμβολής αντικειμένων ανάμεσά τους.</a:t>
            </a:r>
            <a:br>
              <a:rPr sz="1800"/>
            </a:br>
            <a:r>
              <a:rPr b="0" lang="el-GR" sz="1800" spc="-1" strike="noStrike" u="sng">
                <a:solidFill>
                  <a:srgbClr val="ffffff"/>
                </a:solidFill>
                <a:uFillTx/>
                <a:latin typeface="Arial"/>
              </a:rPr>
              <a:t>http://www.rotise.gr/arthra/emfanisi/ti-einai-to-bluetooth.ht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cecff"/>
                </a:solidFill>
                <a:latin typeface="Arial"/>
              </a:rPr>
              <a:t>ΠΗΓΕΣ ΠΛΗΡΟΦΟΡΙΩΝ </a:t>
            </a:r>
            <a:endParaRPr b="0" lang="en-US" sz="4400" spc="-1" strike="noStrike">
              <a:solidFill>
                <a:srgbClr val="ccecff"/>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u="sng">
                <a:solidFill>
                  <a:srgbClr val="ffffff"/>
                </a:solidFill>
                <a:uFillTx/>
                <a:latin typeface="Arial"/>
              </a:rPr>
              <a:t>http://www.rotise.gr/arthra/emfanisi/ti-einai-to-bluetooth.htm</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u="sng">
                <a:solidFill>
                  <a:srgbClr val="ffffff"/>
                </a:solidFill>
                <a:uFillTx/>
                <a:latin typeface="Arial"/>
              </a:rPr>
              <a:t>http://www.explain.gr/index.php/2009-12-24-19-42-17/66--bluetooth/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400" spc="-1" strike="noStrike">
              <a:solidFill>
                <a:srgbClr val="ccecff"/>
              </a:solidFill>
              <a:latin typeface="Arial"/>
            </a:endParaRPr>
          </a:p>
        </p:txBody>
      </p:sp>
      <p:pic>
        <p:nvPicPr>
          <p:cNvPr id="214" name="Picture 9" descr="a"/>
          <p:cNvPicPr/>
          <p:nvPr/>
        </p:nvPicPr>
        <p:blipFill>
          <a:blip r:embed="rId1"/>
          <a:stretch/>
        </p:blipFill>
        <p:spPr>
          <a:xfrm>
            <a:off x="1979640" y="260280"/>
            <a:ext cx="4248000" cy="1152720"/>
          </a:xfrm>
          <a:prstGeom prst="rect">
            <a:avLst/>
          </a:prstGeom>
          <a:ln w="0">
            <a:noFill/>
          </a:ln>
        </p:spPr>
      </p:pic>
      <p:pic>
        <p:nvPicPr>
          <p:cNvPr id="215" name="Picture 10" descr="picon1"/>
          <p:cNvPicPr/>
          <p:nvPr/>
        </p:nvPicPr>
        <p:blipFill>
          <a:blip r:embed="rId2"/>
          <a:stretch/>
        </p:blipFill>
        <p:spPr>
          <a:xfrm>
            <a:off x="4932360" y="1600200"/>
            <a:ext cx="3816360" cy="2185920"/>
          </a:xfrm>
          <a:prstGeom prst="rect">
            <a:avLst/>
          </a:prstGeom>
          <a:ln w="0">
            <a:noFill/>
          </a:ln>
        </p:spPr>
      </p:pic>
      <p:pic>
        <p:nvPicPr>
          <p:cNvPr id="216" name="Picture 11" descr="imagesCANFRFQF"/>
          <p:cNvPicPr/>
          <p:nvPr/>
        </p:nvPicPr>
        <p:blipFill>
          <a:blip r:embed="rId3"/>
          <a:stretch/>
        </p:blipFill>
        <p:spPr>
          <a:xfrm>
            <a:off x="468360" y="4149720"/>
            <a:ext cx="4092480" cy="2100240"/>
          </a:xfrm>
          <a:prstGeom prst="rect">
            <a:avLst/>
          </a:prstGeom>
          <a:ln w="0">
            <a:noFill/>
          </a:ln>
        </p:spPr>
      </p:pic>
      <p:pic>
        <p:nvPicPr>
          <p:cNvPr id="217" name="Picture 12" descr="olzak_bluetooth_fig3"/>
          <p:cNvPicPr/>
          <p:nvPr/>
        </p:nvPicPr>
        <p:blipFill>
          <a:blip r:embed="rId4"/>
          <a:stretch/>
        </p:blipFill>
        <p:spPr>
          <a:xfrm>
            <a:off x="4932360" y="3860640"/>
            <a:ext cx="3816360" cy="2376720"/>
          </a:xfrm>
          <a:prstGeom prst="rect">
            <a:avLst/>
          </a:prstGeom>
          <a:ln w="0">
            <a:noFill/>
          </a:ln>
        </p:spPr>
      </p:pic>
      <p:pic>
        <p:nvPicPr>
          <p:cNvPr id="218" name="Picture 13" descr="picon2"/>
          <p:cNvPicPr/>
          <p:nvPr/>
        </p:nvPicPr>
        <p:blipFill>
          <a:blip r:embed="rId5"/>
          <a:stretch/>
        </p:blipFill>
        <p:spPr>
          <a:xfrm>
            <a:off x="468360" y="1628640"/>
            <a:ext cx="4105080" cy="244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1880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000" spc="-1" strike="noStrike">
              <a:solidFill>
                <a:srgbClr val="ccecff"/>
              </a:solidFill>
              <a:latin typeface="Arial"/>
            </a:endParaRPr>
          </a:p>
        </p:txBody>
      </p:sp>
      <p:sp>
        <p:nvSpPr>
          <p:cNvPr id="220" name="PlaceHolder 2"/>
          <p:cNvSpPr>
            <a:spLocks noGrp="1"/>
          </p:cNvSpPr>
          <p:nvPr>
            <p:ph/>
          </p:nvPr>
        </p:nvSpPr>
        <p:spPr>
          <a:xfrm>
            <a:off x="457200" y="189000"/>
            <a:ext cx="8229600" cy="5937120"/>
          </a:xfrm>
          <a:prstGeom prst="rect">
            <a:avLst/>
          </a:prstGeom>
          <a:noFill/>
          <a:ln w="0">
            <a:noFill/>
          </a:ln>
        </p:spPr>
        <p:txBody>
          <a:bodyPr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Η συγκλίνουσα πορεία των τηλεπικοινωνιών έφερε στο προσκήνιο νέες μεθόδους διασύνδεσης και επικοινωνίας. Μια αρκετά κοινή εφαρμογή είναι η χρήση Bluetooth. Μάθετε τα μυστικά αυτής της τεχνολογίας, τα πλεονεκτήματα και όλα όσα θα πρέπει να προσέξετε για να μην ξεγελαστείτε από κακόβουλες επιθέσεις.</a:t>
            </a:r>
            <a:br>
              <a:rPr sz="1800"/>
            </a:br>
            <a:r>
              <a:rPr b="0" lang="el-GR" sz="1800" spc="-1" strike="noStrike">
                <a:solidFill>
                  <a:srgbClr val="ffffff"/>
                </a:solidFill>
                <a:latin typeface="Arial"/>
              </a:rPr>
              <a:t>Έχετε δει τον τελευταίο καιρό ανθρώπους να περπατούν και να μιλούν στο τηλέφωνο, ενώ αυτό είναι στην τσέπη ή στην τσάντα τους; Μήπως είστε και εσείς ένας από αυτούς; Η «μικρή» τεχνολογική καινοτομία που κρύβεται πίσω από αυτό είναι το πασίγνωστο, πλέον, Bluetooth (μπλου τουθ). </a:t>
            </a:r>
            <a:br>
              <a:rPr sz="1800"/>
            </a:br>
            <a:r>
              <a:rPr b="0" lang="el-GR" sz="1800" spc="-1" strike="noStrike">
                <a:solidFill>
                  <a:srgbClr val="ffffff"/>
                </a:solidFill>
                <a:latin typeface="Arial"/>
              </a:rPr>
              <a:t>Η τεχνολογία Bluetooth αποτελεί έναν από τους πολλούς τρόπους διασύνδεσης ηλεκτρονικών συσκευών. Αν για παράδειγμα, θέλουμε να συνδέσουμε την τηλεόρασή μας με τη συσκευή αναπαραγωγής DVD, θα πρέπει να βρούμε έναν τρόπο διασύνδεσης (που συνήθως είναι ένα καλώδιο το οποίο κρύβεται στο πίσω μέρος των δύο συσκευών). </a:t>
            </a:r>
            <a:br>
              <a:rPr sz="1800"/>
            </a:br>
            <a:r>
              <a:rPr b="0" lang="el-GR" sz="1800" spc="-1" strike="noStrike">
                <a:solidFill>
                  <a:srgbClr val="ffffff"/>
                </a:solidFill>
                <a:latin typeface="Arial"/>
              </a:rPr>
              <a:t>Το Bluetooth ανήκει στην κατηγορία των ασύρματων διασυνδέσεων, αυτών δηλαδή που δε χρειάζονται καλώδια, αλλά χρησιμοποιούν τη μετάδοση συχνοτήτων μέσω του αέρα.</a:t>
            </a:r>
            <a:br>
              <a:rPr sz="1800"/>
            </a:br>
            <a:r>
              <a:rPr b="0" lang="el-GR" sz="1800" spc="-1" strike="noStrike">
                <a:solidFill>
                  <a:srgbClr val="ffffff"/>
                </a:solidFill>
                <a:latin typeface="Arial"/>
              </a:rPr>
              <a:t>Στο προηγούμενο παράδειγμα του ανθρώπου που βλέπουμε στο δρόμο να μιλάει, αν προσέξουμε καλύτερα, είναι πιθανό να δούμε μια συσκευή ακουστικού/ μικρόφωνου προσαρμοσμένη στο αυτί του ομιλώντα και ένα κινητό τηλέφωνο σε μικρή απόσταση. </a:t>
            </a:r>
            <a:br>
              <a:rPr sz="1800"/>
            </a:br>
            <a:r>
              <a:rPr b="0" lang="el-GR" sz="1800" spc="-1" strike="noStrike">
                <a:solidFill>
                  <a:srgbClr val="ffffff"/>
                </a:solidFill>
                <a:latin typeface="Arial"/>
              </a:rPr>
              <a:t>Η διασύνδεση των δύο συσκευών γίνεται με τη βοήθεια της τεχνολογίας Bluetooth.</a:t>
            </a:r>
            <a:br>
              <a:rPr sz="1800"/>
            </a:br>
            <a:r>
              <a:rPr b="0" lang="el-GR" sz="1800" spc="-1" strike="noStrike">
                <a:solidFill>
                  <a:srgbClr val="ffffff"/>
                </a:solidFill>
                <a:latin typeface="Arial"/>
              </a:rPr>
              <a:t>Με παρόμοιο τρόπο μπορούν να συνδεθούν δύο κινητά και να ανταλλάξουν πληροφορίες, δύο ή περισσότεροι υπολογιστές και να διαμοιράσουν τους πόρους τους κλπ.</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ccecff"/>
                </a:solidFill>
                <a:latin typeface="Arial"/>
              </a:rPr>
              <a:t>Τι σημαίνει Bluetooth;</a:t>
            </a:r>
            <a:br>
              <a:rPr sz="4000"/>
            </a:br>
            <a:endParaRPr b="0" lang="en-US" sz="4000" spc="-1" strike="noStrike">
              <a:solidFill>
                <a:srgbClr val="ccecff"/>
              </a:solidFill>
              <a:latin typeface="Arial"/>
            </a:endParaRPr>
          </a:p>
        </p:txBody>
      </p:sp>
      <p:sp>
        <p:nvSpPr>
          <p:cNvPr id="22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Το όνομα προέρχεται από τον βασιλιά της Δανίας, κατά τον 9ο αιώνα, Harald Bluetooth. Υπάρχουν δύο λόγοι για τους οποίους η συγκεκριμένη τεχνολογία πήρε το όνομά του. Ο πρώτος είναι για να τιμηθεί η προσπάθειά του να ενώσει τις σκανδιναβικές χώρες με το τότε βασίλειο της Δανίας. Ο δεύτερος λόγος έχει να κάνει με τη μεγάλη επιρροή που έχουν οι σύγχρονες σκανδιναβικές εταιρίες τηλεπικοινωνιών (Ericsson, Nokia κλπ)</a:t>
            </a:r>
            <a:endParaRPr b="0" lang="en-US" sz="2000" spc="-1" strike="noStrike">
              <a:solidFill>
                <a:srgbClr val="ffffff"/>
              </a:solidFill>
              <a:latin typeface="Arial"/>
            </a:endParaRPr>
          </a:p>
        </p:txBody>
      </p:sp>
      <p:pic>
        <p:nvPicPr>
          <p:cNvPr id="223" name="Picture 7" descr="olzak_bluetooth_fig3"/>
          <p:cNvPicPr/>
          <p:nvPr/>
        </p:nvPicPr>
        <p:blipFill>
          <a:blip r:embed="rId1"/>
          <a:stretch/>
        </p:blipFill>
        <p:spPr>
          <a:xfrm>
            <a:off x="4648320" y="1765440"/>
            <a:ext cx="4038480" cy="4195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79280" y="549360"/>
            <a:ext cx="8507520" cy="576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ccecff"/>
                </a:solidFill>
                <a:latin typeface="Arial"/>
              </a:rPr>
              <a:t>Πώς</a:t>
            </a:r>
            <a:r>
              <a:rPr b="0" lang="el-GR" sz="4000" spc="-1" strike="noStrike">
                <a:solidFill>
                  <a:srgbClr val="ccecff"/>
                </a:solidFill>
                <a:latin typeface="Arial"/>
              </a:rPr>
              <a:t> </a:t>
            </a:r>
            <a:r>
              <a:rPr b="1" lang="el-GR" sz="4000" spc="-1" strike="noStrike">
                <a:solidFill>
                  <a:srgbClr val="ccecff"/>
                </a:solidFill>
                <a:latin typeface="Arial"/>
              </a:rPr>
              <a:t>λειτουργεί;</a:t>
            </a:r>
            <a:br>
              <a:rPr sz="4000"/>
            </a:br>
            <a:endParaRPr b="0" lang="en-US" sz="4000" spc="-1" strike="noStrike">
              <a:solidFill>
                <a:srgbClr val="ccecff"/>
              </a:solidFill>
              <a:latin typeface="Arial"/>
            </a:endParaRPr>
          </a:p>
        </p:txBody>
      </p:sp>
      <p:sp>
        <p:nvSpPr>
          <p:cNvPr id="225" name="PlaceHolder 2"/>
          <p:cNvSpPr>
            <a:spLocks noGrp="1"/>
          </p:cNvSpPr>
          <p:nvPr>
            <p:ph/>
          </p:nvPr>
        </p:nvSpPr>
        <p:spPr>
          <a:xfrm>
            <a:off x="468360" y="1125360"/>
            <a:ext cx="8229600" cy="5112000"/>
          </a:xfrm>
          <a:prstGeom prst="rect">
            <a:avLst/>
          </a:prstGeom>
          <a:noFill/>
          <a:ln w="0">
            <a:noFill/>
          </a:ln>
        </p:spPr>
        <p:txBody>
          <a:bodyPr anchor="t">
            <a:normAutofit fontScale="99000"/>
          </a:bodyPr>
          <a:p>
            <a:pPr marL="339480" indent="-3394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Ας δούμε τον τρόπο λειτουργίας του Bluetooth. Ας υποθέσουμε ότι δύο συσκευές είναι έτοιμες να συνδεθούν. Αρχικά υπάρχουν κάποια προβλήματα που χρειάζεται να αντιμετωπιστούν. Το πρώτο ερώτημα που θα τεθεί είναι το μέσο που θα χρησιμοποιηθεί για να γίνει η σύνδεση. Επίσης, θα πρέπει να αποφασιστεί η μορφή της πληροφορίας που θα μεταδοθεί αλλά και η ταχύτητα μετάδοσης. Ο τρόπος επικοινωνίας συχνά αποκαλείται πρωτόκολλο και είναι αυτός που θέτει τους κανόνες που πρέπει να τηρούνται κατά τη διάρκεια της επικοινωνίας.  </a:t>
            </a:r>
            <a:br>
              <a:rPr sz="1800"/>
            </a:br>
            <a:r>
              <a:rPr b="0" lang="el-GR" sz="1800" spc="-1" strike="noStrike">
                <a:solidFill>
                  <a:srgbClr val="ffffff"/>
                </a:solidFill>
                <a:latin typeface="Arial"/>
              </a:rPr>
              <a:t>Ξεκινώντας μια σύνδεση Bluetooth, ορίζεται σαν μέσο επικοινωνίας ο αέρας, αφού τα σήματα μεταφέρονται μέσω αυτού. Οι κανονισμοί τέτοιου είδους επικοινωνίας προδιαγράφουν τη μορφή του σήματος, την ταχύτητα και το χρονισμό της μετάδοσης. </a:t>
            </a:r>
            <a:br>
              <a:rPr sz="1800"/>
            </a:br>
            <a:r>
              <a:rPr b="0" lang="el-GR" sz="1800" spc="-1" strike="noStrike">
                <a:solidFill>
                  <a:srgbClr val="ffffff"/>
                </a:solidFill>
                <a:latin typeface="Arial"/>
              </a:rPr>
              <a:t>Η μετάδοση σήματος Bluetooth είναι χαμηλής ισχύος και γίνεται στην περιοχή συχνοτήτων των 2,4GHz (δηλαδή 2.4 δις κύκλους ανά δευτερόλεπτο). Ας υποθέσουμε ότι βρίσκεστε σε ένα λεωφορείο και δίπλα σας κάθεται κάποιος που συνομιλεί με το κινητό του μέσω της συσκευής Bluetooth. Ακριβώς μπροστά σας κάθεται κάποιος άλλος συνεπιβάτης, ο οποίος κάνει ακριβώς το ίδιο πράγμα. Μάλιστα, οι δύο συνεπιβάτες σας μπορεί να έχουν ακριβώς τις ίδιες συσκευές τηλεφώνου. Μπορεί ο ένας συνεπιβάτης σας να ακούσει τη συνομιλία του άλλου; Η απάντηση είναι όχι. Πώς όμως γίνεται αυτό αφού η μετάδοση του σήματος φτάνει από τη μία άκρη του λεωφορείου έως την άλλη; Και πώς γίνεται να μην παρεμβάλλεται κάποιος που βρίσκεται σε μικρή απόσταση εκτός λεωφορείου;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1880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000" spc="-1" strike="noStrike">
              <a:solidFill>
                <a:srgbClr val="ccecff"/>
              </a:solidFill>
              <a:latin typeface="Arial"/>
            </a:endParaRPr>
          </a:p>
        </p:txBody>
      </p:sp>
      <p:sp>
        <p:nvSpPr>
          <p:cNvPr id="227" name="PlaceHolder 2"/>
          <p:cNvSpPr>
            <a:spLocks noGrp="1"/>
          </p:cNvSpPr>
          <p:nvPr>
            <p:ph/>
          </p:nvPr>
        </p:nvSpPr>
        <p:spPr>
          <a:xfrm>
            <a:off x="468360" y="620280"/>
            <a:ext cx="8229600" cy="5937480"/>
          </a:xfrm>
          <a:prstGeom prst="rect">
            <a:avLst/>
          </a:prstGeom>
          <a:noFill/>
          <a:ln w="0">
            <a:noFill/>
          </a:ln>
        </p:spPr>
        <p:txBody>
          <a:bodyPr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Αρχικά, λόγω της χαμηλής ισχύος μετάδοσης, οι δύο συσκευές πρέπει να βρίσκονται σε σχετικά μικρή απόσταση, φιλτράροντας, έτσι, άλλες απομακρυσμένες εκπομπές. Η ισχύς εκπομπής από το κινητό προς το ακουστικό είναι 0,1watt, σε αντίθεση με τα κινητά τηλέφωνα, που εκπέμπουν 3Watt για την επικοινωνία τους με την τοπική κεραία. Η μετάδοση Bluetooth βασίζεται στην τεχνολογία διευρυμένου φάσματος με άλματα συχνότητας (spread-spectrum frequency hopping). Το χαρακτηριστικό αυτής της μεθόδου είναι ότι μεταδίδει το σήμα, όχι με σταθερή συχνότητα, αλλά «πηδώντας» από τη μία συχνότητα στην άλλη, καλύπτοντας ένα φάσμα 79 διαφορετικών, «τυχαία» επιλεγμένων συχνοτήτων στην ευρύτερη περιοχή των 2,4GHz.</a:t>
            </a:r>
            <a:br>
              <a:rPr sz="1800"/>
            </a:br>
            <a:r>
              <a:rPr b="0" lang="el-GR" sz="1800" spc="-1" strike="noStrike">
                <a:solidFill>
                  <a:srgbClr val="ffffff"/>
                </a:solidFill>
                <a:latin typeface="Arial"/>
              </a:rPr>
              <a:t>Με αυτή την τεχνική, επιτυγχάνεται σύνδεση των δύο συσκευών σε συχνότητα που αλλάζει 1600 φορές το δευτερόλεπτο. Αυτό κάνει εξαιρετικά απίθανο, έως αδύνατο, να συμπέσουν δύο μεταδόσεις. Ακόμα όμως και αν γίνει αυτό κατά τη διάρκεια μιας σύντομης μετάδοσης (διάρκειας 1/1600 δευτερολέπτου), είναι απίθανο η επόμενη μετάδοση να είναι και αυτή στην ίδια συχνότητα. Καταλαβαίνουμε λοιπόν, γιατί δεν υπάρχει παρεμβολή από γειτονικές συσκευές, πράγμα που κάνει τη συγκεκριμένη μετάδοση πολύ αξιόπιστη. Στην αναπαράσταση που ακολουθεί βλέπουμε μια διαγραμματική απεικόνιση της ταχύτατης μεταβολής της συχνότητας. Δύο συσκευές που επικοινωνούν, στέλνουν και λαμβάνουν σήμα στην ίδια ακριβώς συχνότητα που δείχνει το «μπλε στίγμα» του διαγράμματος. Άρα υπάρχει απόλυτος συγχρονισμός. Για να προκληθεί παρεμβολή (η υποκλοπή) από μια άλλη συσκευή, θα πρέπει το δικό της «μπλε στίγμα» να εμφανίζεται και αυτό στις ίδιες θέσεις που εμφανίζεται το στίγμα των άλλων δύο.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44640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000" spc="-1" strike="noStrike">
              <a:solidFill>
                <a:srgbClr val="ccecff"/>
              </a:solidFill>
              <a:latin typeface="Arial"/>
            </a:endParaRPr>
          </a:p>
        </p:txBody>
      </p:sp>
      <p:sp>
        <p:nvSpPr>
          <p:cNvPr id="229" name="PlaceHolder 2"/>
          <p:cNvSpPr>
            <a:spLocks noGrp="1"/>
          </p:cNvSpPr>
          <p:nvPr>
            <p:ph/>
          </p:nvPr>
        </p:nvSpPr>
        <p:spPr>
          <a:xfrm>
            <a:off x="539280" y="2276640"/>
            <a:ext cx="8075880" cy="3744720"/>
          </a:xfrm>
          <a:prstGeom prst="rect">
            <a:avLst/>
          </a:prstGeom>
          <a:noFill/>
          <a:ln w="0">
            <a:noFill/>
          </a:ln>
        </p:spPr>
        <p:txBody>
          <a:bodyPr anchor="t">
            <a:normAutofit fontScale="85000"/>
          </a:bodyPr>
          <a:p>
            <a:pPr marL="291600" indent="-29160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Comic Sans MS"/>
              </a:rPr>
              <a:t>Από τα παραπάνω φαίνεται ότι για να επικοινωνήσουν δύο συσκευές μεταξύ τους, θα πρέπει να κάνουν ότι περιγράψαμε ως αδύνατο στην προηγούμενη παράγραφο. Δηλαδή, η μετάβαση από συχνότητα σε συχνότητα να είναι ακριβώς η ίδια. Πώς όμως η μια συσκευή γνωρίζει που θα εκπέμπει η άλλη (και αντίστροφα); </a:t>
            </a:r>
            <a:br>
              <a:rPr sz="1400"/>
            </a:br>
            <a:r>
              <a:rPr b="0" lang="el-GR" sz="1400" spc="-1" strike="noStrike">
                <a:solidFill>
                  <a:srgbClr val="ffffff"/>
                </a:solidFill>
                <a:latin typeface="Comic Sans MS"/>
              </a:rPr>
              <a:t>Αυτό αποφασίζεται στην αρχή της συνομιλίας, όταν οι δύο συσκευές «μοιράζονται» το μυστικό, που αποκαλείται λέξη κλειδί. Η πληροφορία αυτή βοηθάει το συγχρονισμό, αλλά παραμένει άγνωστη σε άλλες συσκευές που δε λαμβάνουν μέρος στη συνομιλία.</a:t>
            </a:r>
            <a:br>
              <a:rPr sz="1400"/>
            </a:br>
            <a:r>
              <a:rPr b="0" lang="el-GR" sz="1400" spc="-1" strike="noStrike">
                <a:solidFill>
                  <a:srgbClr val="ffffff"/>
                </a:solidFill>
                <a:latin typeface="Comic Sans MS"/>
              </a:rPr>
              <a:t>Αν λοιπόν, δείτε στην οθόνη του κινητού σας μια ένδειξη ότι κάποιος προσπαθεί να συνδεθεί μαζί σας μέσω Bluetooth, ουσιαστικά η συσκευή του ζητάει τη λέξη κλειδί, ώστε να αρχίσει η μετάδοση. Αν θέλετε να δείτε μια προσέγγιση αναπαράστασης της επικοινωνίας δύο συσκευών μπορείτε να δείτε το επόμενο διάγραμμα. Μη ξεχνάτε ότι η πραγματική ταχύτητα είναι 50 φορές υψηλότερη.</a:t>
            </a:r>
            <a:br>
              <a:rPr sz="1400"/>
            </a:br>
            <a:r>
              <a:rPr b="0" lang="el-GR" sz="1400" spc="-1" strike="noStrike">
                <a:solidFill>
                  <a:srgbClr val="ffffff"/>
                </a:solidFill>
                <a:latin typeface="Comic Sans MS"/>
              </a:rPr>
              <a:t>Ένα σημαντικό χαρακτηριστικό της μετάδοσης μέσω Bluetooth είναι ότι δεν απαιτείται η ευθυγράμμιση των συσκευών, ώστε να «βλέπει» η μία την άλλη. Η μετάδοση Bluetooth είναι ικανή να διαπεράσει τα φυσικά εμπόδια που παρεμβάλλονται (όπως ο τοίχος του σπιτιού ή το περίβλημα μιας τσάντας). </a:t>
            </a:r>
            <a:br>
              <a:rPr sz="1400"/>
            </a:br>
            <a:r>
              <a:rPr b="0" lang="el-GR" sz="1400" spc="-1" strike="noStrike">
                <a:solidFill>
                  <a:srgbClr val="ffffff"/>
                </a:solidFill>
                <a:latin typeface="Comic Sans MS"/>
              </a:rPr>
              <a:t>Αυτό δε συμβαίνει με άλλες τεχνολογίες. Για παράδειγμα, το τηλεχειριστήριο της τηλεόρασής μας, που χρησιμοποιεί υπέρυθρες ακτίνες, θα πρέπει να ευθυγραμμιστεί με την τηλεόραση μας για να μεταδώσει το σήμα του. Ένα ακόμα σημαντικό χαρακτηριστικό της τεχνολογίας Bluetooth, είναι ότι μπορεί να επικοινωνεί μέχρι και με 8 συσκευές, ταυτόχρονα. Είναι πιθανό να ακούσετε τον όρο pico-δίκτυο που δεν είναι τίποτα άλλο από τη διασύνδεση πολλών συσκευών μέσω της τεχνολογίας Bluetooth (μικρογραφία ενός τοπικού δικτύου, LAN). Σε ένα τέτοιο δίκτυο πραγματοποιείται αυτόματα συγχρονισμός των μεταδόσεων, ώστε να μην υπάρχει παρεμβολή από συσκευές εκτός δικτύου ή άλλα δίκτυα.</a:t>
            </a:r>
            <a:br>
              <a:rPr sz="1400"/>
            </a:br>
            <a:r>
              <a:rPr b="0" lang="el-GR" sz="1400" spc="-1" strike="noStrike">
                <a:solidFill>
                  <a:srgbClr val="ffffff"/>
                </a:solidFill>
                <a:latin typeface="Comic Sans MS"/>
              </a:rPr>
              <a:t>Αξίζει να σημειωθεί ότι ο ρυθμός μετάδοσης των πληροφοριών μέσω Bluetooth φτάνει τα 3Μbps.</a:t>
            </a:r>
            <a:br>
              <a:rPr sz="1400"/>
            </a:br>
            <a:br>
              <a:rPr sz="1800"/>
            </a:br>
            <a:r>
              <a:rPr b="0" lang="el-GR" sz="1800" spc="-1" strike="noStrike">
                <a:solidFill>
                  <a:srgbClr val="ffffff"/>
                </a:solidFill>
                <a:latin typeface="Comic Sans MS"/>
              </a:rPr>
              <a:t> </a:t>
            </a:r>
            <a:endParaRPr b="0" lang="en-US" sz="1800" spc="-1" strike="noStrike">
              <a:solidFill>
                <a:srgbClr val="ffffff"/>
              </a:solidFill>
              <a:latin typeface="Arial"/>
            </a:endParaRPr>
          </a:p>
        </p:txBody>
      </p:sp>
      <p:pic>
        <p:nvPicPr>
          <p:cNvPr id="230" name="Picture 7" descr="picon1"/>
          <p:cNvPicPr/>
          <p:nvPr/>
        </p:nvPicPr>
        <p:blipFill>
          <a:blip r:embed="rId1"/>
          <a:stretch/>
        </p:blipFill>
        <p:spPr>
          <a:xfrm>
            <a:off x="468360" y="260280"/>
            <a:ext cx="8280360" cy="2016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539640" y="333000"/>
            <a:ext cx="8229600" cy="1150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ccecff"/>
                </a:solidFill>
                <a:latin typeface="Arial"/>
              </a:rPr>
              <a:t>Πόσο ασφαλής είναι η μετάδοση;</a:t>
            </a:r>
            <a:br>
              <a:rPr sz="3200"/>
            </a:br>
            <a:endParaRPr b="0" lang="en-US" sz="3200" spc="-1" strike="noStrike">
              <a:solidFill>
                <a:srgbClr val="ccecff"/>
              </a:solidFill>
              <a:latin typeface="Arial"/>
            </a:endParaRPr>
          </a:p>
        </p:txBody>
      </p:sp>
      <p:sp>
        <p:nvSpPr>
          <p:cNvPr id="232" name="PlaceHolder 2"/>
          <p:cNvSpPr>
            <a:spLocks noGrp="1"/>
          </p:cNvSpPr>
          <p:nvPr>
            <p:ph/>
          </p:nvPr>
        </p:nvSpPr>
        <p:spPr>
          <a:xfrm>
            <a:off x="468360" y="1773000"/>
            <a:ext cx="8229600" cy="4824360"/>
          </a:xfrm>
          <a:prstGeom prst="rect">
            <a:avLst/>
          </a:prstGeom>
          <a:noFill/>
          <a:ln w="0">
            <a:noFill/>
          </a:ln>
        </p:spPr>
        <p:txBody>
          <a:bodyPr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Η ασφάλεια των πληροφοριών είναι ένα πολύ σημαντικό ζήτημα, ειδικότερα όταν η μετάδοση γίνεται μέσω ραδιοφωνικών συχνοτήτων. </a:t>
            </a:r>
            <a:br>
              <a:rPr sz="1800"/>
            </a:br>
            <a:r>
              <a:rPr b="0" lang="el-GR" sz="1800" spc="-1" strike="noStrike">
                <a:solidFill>
                  <a:srgbClr val="ffffff"/>
                </a:solidFill>
                <a:latin typeface="Arial"/>
              </a:rPr>
              <a:t>Η ασφάλεια της επικοινωνίας καθορίζεται, είτε από το επίπεδο υπηρεσίας (π.χ. της ανταλλαγής γραπτών μηνυμάτων), είτε από την ασφάλεια σε επίπεδο συσκευής (π.χ. της συνεχούς επικοινωνίας με συσκευή hands-free).</a:t>
            </a:r>
            <a:br>
              <a:rPr sz="1800"/>
            </a:br>
            <a:r>
              <a:rPr b="0" lang="el-GR" sz="1800" spc="-1" strike="noStrike">
                <a:solidFill>
                  <a:srgbClr val="ffffff"/>
                </a:solidFill>
                <a:latin typeface="Arial"/>
              </a:rPr>
              <a:t>Η ανάλυση των παραπάνω πληροφοριών μπορεί να επεκταθεί αρκετά, ξεπερνώντας τα όρια του συγκεκριμένου άρθρου.</a:t>
            </a:r>
            <a:br>
              <a:rPr sz="1800"/>
            </a:br>
            <a:r>
              <a:rPr b="0" lang="el-GR" sz="1800" spc="-1" strike="noStrike">
                <a:solidFill>
                  <a:srgbClr val="ffffff"/>
                </a:solidFill>
                <a:latin typeface="Arial"/>
              </a:rPr>
              <a:t>Μια τακτική που πρέπει να έχετε κατά νου, είναι να μην επιτρέπετε πρόσβαση από αγνώστους στις συσκευές σας. Τα τελευταία χρόνια με την εξέλιξη των συσκευών κινητής τηλεφωνίας εξελίχθηκαν και κακόβουλες εφαρμογές (ιοί). Για να μεταφερθεί μια κακόβουλη εφαρμογή πρέπει να δοθεί συγκατάθεση του χρήστη. Καλό λοιπόν είναι να προσέχετε, όταν επιτρέπετε ελεύθερη πρόσβαση σε αγνώστους.</a:t>
            </a:r>
            <a:br>
              <a:rPr sz="1800"/>
            </a:br>
            <a:r>
              <a:rPr b="0" lang="el-GR" sz="1800" spc="-1" strike="noStrike">
                <a:solidFill>
                  <a:srgbClr val="ffffff"/>
                </a:solidFill>
                <a:latin typeface="Arial"/>
              </a:rPr>
              <a:t>Γίνονται ολοένα και γνωστότερα, προβλήματα όπως το "blue jacking" όπου ο χρήστης δέχεται μια επαφή (με στοιχεία ταυτότητας) η οποία αυτόματα εισάγεται στον κατάλογο του κινητού του. Αυτό μετατρέπει τον αποστολέα σε γνωστό χρήστη, άρα του δίνει ευκολότερη πρόσβαση στη συγκεκριμένη συσκευή. Επίσης, η επίθεση "blue bugging", με την οποία ο εισβολέας αποκτά πρόσβαση σε υπηρεσίες όπως γραπτά μηνύματα, κλήσεις κλπ.</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ccecff"/>
                </a:solidFill>
                <a:latin typeface="Arial"/>
              </a:rPr>
              <a:t>ΕΙΝΑΙ ΕΠΙΒΛΑΒΕΣ ΓΙΑ ΤΗΝ ΥΓΕΙΑ ΜΑΣ</a:t>
            </a:r>
            <a:r>
              <a:rPr b="0" lang="el-GR" sz="4000" spc="-1" strike="noStrike">
                <a:solidFill>
                  <a:srgbClr val="ccecff"/>
                </a:solidFill>
                <a:latin typeface="Arial"/>
              </a:rPr>
              <a:t> </a:t>
            </a:r>
            <a:endParaRPr b="0" lang="en-US" sz="4000" spc="-1" strike="noStrike">
              <a:solidFill>
                <a:srgbClr val="ccecff"/>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Arial"/>
              </a:rPr>
              <a:t>Η τεχνολογία Bluetooth βασίζεται στη μετάδοση μικροκυμάτων στην περιοχή των 2.4GHz. Άρα, όσοι βρισκόμαστε σε κοντινή απόσταση από ένα πομπό Bluetooth είμαστε εκτεθειμένοι.</a:t>
            </a:r>
            <a:br>
              <a:rPr sz="1600"/>
            </a:br>
            <a:r>
              <a:rPr b="0" lang="el-GR" sz="1600" spc="-1" strike="noStrike">
                <a:solidFill>
                  <a:srgbClr val="ffffff"/>
                </a:solidFill>
                <a:latin typeface="Arial"/>
              </a:rPr>
              <a:t>Σε σχέση με άλλες ασύρματες τεχνολογίες, το Bluetooth έχει αρκετά χαμηλή ισχύ. Βέβαια, υπάρχουν συσκευές Bluetooth που ανάλογα με την «κλάση» στην οποία κατηγοριοποιούνται εκπέμπουν ισχυρότερα σήματα. Οι συσκευές «κλάσης 1» εκπέμπουν την ίδια ισχύ με τις συσκευές κινητής τηλεφωνίας. Τέτοιες συσκευές είναι, συνήθως, δέκτες που επιτυγχάνουν συνδέσεις μέχρι και σε 100 μέτρα απόσταση. Οι υπόλοιπες «κλάσεις» θεωρούνται λιγότερο επιβλαβείς από τα κινητά τηλέφωνα. </a:t>
            </a:r>
            <a:br>
              <a:rPr sz="1600"/>
            </a:br>
            <a:r>
              <a:rPr b="0" lang="el-GR" sz="1600" spc="-1" strike="noStrike">
                <a:solidFill>
                  <a:srgbClr val="ffffff"/>
                </a:solidFill>
                <a:latin typeface="Arial"/>
              </a:rPr>
              <a:t>Βεβαίως, τα μακροπρόθεσμα αποτελέσματα έκθεσης σε οποιοδήποτε είδους ραδιοφωνικής μετάδοσης, δεν είναι ακόμα ξεκάθαρα. Καλό θα είναι οι χρήστες να χρησιμοποιούν με σύνεση και μέτρο τέτοιου είδους τεχνολογίες και ειδικότερα τα παιδιά και οι έγκυες γυναίκες. Είναι το Bluetooth το ίδιο με το WiFi; Αν και η τεχνολογία είναι παρόμοια, οι εφαρμογές διαφέρουν με την τεχνολογία WiFi να κυριαρχεί στη δικτύωση ευρύτερων δικτύων υπολογιστών, παρουσιάζοντας αναλογία με τα παραδοσιακά τοπικά δίκτυα LAN. Τα δίκτυα WiFi είναι δυσκολότερα στη δημιουργία, αλλά δίνουν τη δυνατότητα διασύνδεσης περισσότερων πόρων, η σύνδεση είναι ταχύτατη και, τόσο η κάλυψη όσο και η ασφάλεια, είναι σαφώς ανώτερες από αυτές του Bluetooth.Bluetooth 3.0 Η εξέλιξη του Bluetooth θα παρέχει στους χρήστες δυνατότητες διασύνδεσης σε πολύ μεγάλη ακτίνα (Ultra Wide Band) και θα λειτουργεί με πολύ υψηλές ταχύτητες μεταφοράς (480Mbps), διατηρώντας παράλληλα το χαρακτηριστικό της χαμηλής ισχύος εκπομπής.</a:t>
            </a:r>
            <a:endParaRPr b="0" lang="en-US" sz="1600" spc="-1" strike="noStrike">
              <a:solidFill>
                <a:srgbClr val="ffffff"/>
              </a:solidFill>
              <a:latin typeface="Arial"/>
            </a:endParaRPr>
          </a:p>
          <a:p>
            <a:pPr marL="335880" indent="-3358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u="sng">
                <a:solidFill>
                  <a:srgbClr val="ccecff"/>
                </a:solidFill>
                <a:uFillTx/>
                <a:latin typeface="Arial"/>
              </a:rPr>
              <a:t>http://www.explain.gr/index.php/2009-12-24-19-42-17/66--bluetooth</a:t>
            </a:r>
            <a:r>
              <a:rPr b="0" lang="el-GR" sz="1600" spc="-1" strike="noStrike">
                <a:solidFill>
                  <a:srgbClr val="ccec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2T18:15:19Z</dcterms:created>
  <dc:creator>@</dc:creator>
  <dc:description/>
  <dc:language>en-US</dc:language>
  <cp:lastModifiedBy>MATRIX COMPUTERS</cp:lastModifiedBy>
  <dcterms:modified xsi:type="dcterms:W3CDTF">2012-04-03T15:35:45Z</dcterms:modified>
  <cp:revision>7</cp:revision>
  <dc:subject/>
  <dc:title>ΕΡΓΑΣΙΑ ΑΣΥΡΜΑΤΑ ΔΙΚΤΥΑ  ΟΜΑΔΑ  3  ΓΙΩΡΓΟΣ  ΧΑΪΔΕΜΕΝΟΣ  ΒΠ</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